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wmf" ContentType="image/x-wmf"/>
  <Override PartName="/ppt/media/image24.png" ContentType="image/png"/>
  <Override PartName="/ppt/media/image23.jpeg" ContentType="image/jpeg"/>
  <Override PartName="/ppt/media/image22.wmf" ContentType="image/x-wmf"/>
  <Override PartName="/ppt/media/image11.gif" ContentType="image/gif"/>
  <Override PartName="/ppt/media/image18.wmf" ContentType="image/x-wmf"/>
  <Override PartName="/ppt/media/image7.gif" ContentType="image/gif"/>
  <Override PartName="/ppt/media/image32.jpeg" ContentType="image/jpeg"/>
  <Override PartName="/ppt/media/image20.wmf" ContentType="image/x-wmf"/>
  <Override PartName="/ppt/media/image3.jpeg" ContentType="image/jpeg"/>
  <Override PartName="/ppt/media/image12.gif" ContentType="image/gif"/>
  <Override PartName="/ppt/media/image30.jpeg" ContentType="image/jpeg"/>
  <Override PartName="/ppt/media/image9.png" ContentType="image/png"/>
  <Override PartName="/ppt/media/image17.wmf" ContentType="image/x-wmf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4.jpeg" ContentType="image/jpeg"/>
  <Override PartName="/ppt/media/image10.jpeg" ContentType="image/jpeg"/>
  <Override PartName="/ppt/media/image35.png" ContentType="image/png"/>
  <Override PartName="/ppt/media/image5.png" ContentType="image/png"/>
  <Override PartName="/ppt/media/image8.gif" ContentType="image/gif"/>
  <Override PartName="/ppt/media/image19.wmf" ContentType="image/x-wmf"/>
  <Override PartName="/ppt/media/image21.wmf" ContentType="image/x-wmf"/>
  <Override PartName="/ppt/media/image28.png" ContentType="image/png"/>
  <Override PartName="/ppt/media/image1.wmf" ContentType="image/x-wmf"/>
  <Override PartName="/ppt/media/image14.wmf" ContentType="image/x-wmf"/>
  <Override PartName="/ppt/media/image6.gif" ContentType="image/gif"/>
  <Override PartName="/ppt/media/image29.png" ContentType="image/png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DAB-F071-4D29-8039-690243F5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B32-41A8-4D6A-99FE-CB1EEED4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46B-7024-48F0-A5F4-7E653BEA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F95-6604-4200-A6AB-298FF870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B518-290D-4B3D-BD0A-2AED1724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0187-E015-4C27-B604-2C68DCA7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1FC2-67D8-43F9-A055-EB8AABA9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0A92-81A3-4E9A-BCE3-88E70EF8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DEF1-2972-49BC-AB76-2BE44561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7FDD-3D69-4FBA-81EE-362C9BBA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8A8F-BCA9-4085-8F20-4BC1B3EC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0CA8-5410-43D2-9789-40EA74C6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8DE8-2069-4984-A088-BA47D29F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4968-A17B-4F1E-A323-EE455DA9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EA64-4F30-45E2-94A1-C77FB327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621E-744F-45FE-9934-2F583A53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08CB-00DB-45A0-9A71-553BF7AD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EF8-2B08-4564-91B7-ECEC3092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AC0-49EA-4A0E-99CD-DCB9FBF4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FB86-C227-4F30-818E-FD30D206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910-8996-45A7-94CB-53850E2E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3C5-1342-4AA1-9392-8EC87D69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09A-94A4-4FDC-AE34-FF004716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C4C-592F-4832-AF4B-64FB2099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07C2-2485-4E53-860A-3C6DC0ED0A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34B0-0C10-4B24-BF52-AE717C3FC2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se.ssl.berkeley.edu/img/earthquakes/Railroad.gif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se.ssl.berkeley.edu/lessons/indiv/davis/inprogress/QuakesEng3.html" TargetMode="External"/><Relationship Id="rId2" Type="http://schemas.openxmlformats.org/officeDocument/2006/relationships/hyperlink" Target="http://www.cdli.ca/CITE/earth_waves.htm" TargetMode="External"/><Relationship Id="rId3" Type="http://schemas.openxmlformats.org/officeDocument/2006/relationships/hyperlink" Target="http://www.eti-geochemistry.com/gulfeq/images/pic07.html" TargetMode="External"/><Relationship Id="rId4" Type="http://schemas.openxmlformats.org/officeDocument/2006/relationships/hyperlink" Target="http://www.fema.gov/kids/quake.htm" TargetMode="External"/><Relationship Id="rId5" Type="http://schemas.openxmlformats.org/officeDocument/2006/relationships/hyperlink" Target="http://www.livescience.com/forcesofnature/050622_new_madrid.html" TargetMode="External"/><Relationship Id="rId6" Type="http://schemas.openxmlformats.org/officeDocument/2006/relationships/hyperlink" Target="http://www.maps.com/ref_map.aspx?nav=RM&amp;cid=679,1037&amp;pid=12871" TargetMode="External"/><Relationship Id="rId7" Type="http://schemas.openxmlformats.org/officeDocument/2006/relationships/hyperlink" Target="http://www.mgs.md.gov/esic/brochures/earthquake.html" TargetMode="External"/><Relationship Id="rId8" Type="http://schemas.openxmlformats.org/officeDocument/2006/relationships/hyperlink" Target="http://nanasrecipes.com/soup.html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hyperlink" Target="http://en.wikipedia.org/wiki/Image:2004_Indonesia_Tsunami_edit.gif" TargetMode="External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107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Evaluating Earthquakes</a:t>
            </a:r>
            <a:endParaRPr b="0" lang="en-US" sz="5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Jill Fran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ptember 200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SF NMGK-8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eismic Wave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waves of shaking are calle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ismic wave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8" name="Picture 6" descr="seismic wave schematic"/>
          <p:cNvPicPr/>
          <p:nvPr/>
        </p:nvPicPr>
        <p:blipFill>
          <a:blip r:embed="rId1"/>
          <a:stretch/>
        </p:blipFill>
        <p:spPr>
          <a:xfrm>
            <a:off x="1981080" y="2819520"/>
            <a:ext cx="579132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Richter Scale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ichter scal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used to measure how much shaking an earthquake caus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Richter scale gives each earthquake a number from 1-10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ss than 2 – cannot be fel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 and 4 – can be felt but do not cause dama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5 and 6 – can cause dama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7-10 are major earthquakes and cause severe dama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2" name="Picture 4" descr="sy01853_[1]"/>
          <p:cNvPicPr/>
          <p:nvPr/>
        </p:nvPicPr>
        <p:blipFill>
          <a:blip r:embed="rId1"/>
          <a:stretch/>
        </p:blipFill>
        <p:spPr>
          <a:xfrm>
            <a:off x="7696080" y="4419720"/>
            <a:ext cx="1427400" cy="1382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sy01852_[1]"/>
          <p:cNvPicPr/>
          <p:nvPr/>
        </p:nvPicPr>
        <p:blipFill>
          <a:blip r:embed="rId2"/>
          <a:stretch/>
        </p:blipFill>
        <p:spPr>
          <a:xfrm>
            <a:off x="7772400" y="1104840"/>
            <a:ext cx="1219320" cy="1181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sy01851_[1]"/>
          <p:cNvPicPr/>
          <p:nvPr/>
        </p:nvPicPr>
        <p:blipFill>
          <a:blip r:embed="rId3"/>
          <a:stretch/>
        </p:blipFill>
        <p:spPr>
          <a:xfrm>
            <a:off x="7162920" y="5749920"/>
            <a:ext cx="1143000" cy="1108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sy01850_[1]"/>
          <p:cNvPicPr/>
          <p:nvPr/>
        </p:nvPicPr>
        <p:blipFill>
          <a:blip r:embed="rId4"/>
          <a:stretch/>
        </p:blipFill>
        <p:spPr>
          <a:xfrm>
            <a:off x="7696080" y="3124080"/>
            <a:ext cx="1219320" cy="1181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sy01849_[1]"/>
          <p:cNvPicPr/>
          <p:nvPr/>
        </p:nvPicPr>
        <p:blipFill>
          <a:blip r:embed="rId5"/>
          <a:stretch/>
        </p:blipFill>
        <p:spPr>
          <a:xfrm>
            <a:off x="0" y="0"/>
            <a:ext cx="990720" cy="960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sy01848_[1]"/>
          <p:cNvPicPr/>
          <p:nvPr/>
        </p:nvPicPr>
        <p:blipFill>
          <a:blip r:embed="rId6"/>
          <a:stretch/>
        </p:blipFill>
        <p:spPr>
          <a:xfrm>
            <a:off x="0" y="4143240"/>
            <a:ext cx="914400" cy="885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sy01847_[1]"/>
          <p:cNvPicPr/>
          <p:nvPr/>
        </p:nvPicPr>
        <p:blipFill>
          <a:blip r:embed="rId7"/>
          <a:stretch/>
        </p:blipFill>
        <p:spPr>
          <a:xfrm>
            <a:off x="7315200" y="380880"/>
            <a:ext cx="741240" cy="717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sy01854_[1]"/>
          <p:cNvPicPr/>
          <p:nvPr/>
        </p:nvPicPr>
        <p:blipFill>
          <a:blip r:embed="rId8"/>
          <a:stretch/>
        </p:blipFill>
        <p:spPr>
          <a:xfrm>
            <a:off x="20520" y="5475240"/>
            <a:ext cx="1427400" cy="1382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sy01855_[1]"/>
          <p:cNvPicPr/>
          <p:nvPr/>
        </p:nvPicPr>
        <p:blipFill>
          <a:blip r:embed="rId9"/>
          <a:stretch/>
        </p:blipFill>
        <p:spPr>
          <a:xfrm>
            <a:off x="762120" y="228600"/>
            <a:ext cx="14270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How Do We Measure An Earthquake?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rthquakes are measured using a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ismometer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7" descr="At Caltech laboratories en Pasadena, a conventional seismometer is checked for recent earthquake activity around the world"/>
          <p:cNvPicPr/>
          <p:nvPr/>
        </p:nvPicPr>
        <p:blipFill>
          <a:blip r:embed="rId1"/>
          <a:stretch/>
        </p:blipFill>
        <p:spPr>
          <a:xfrm>
            <a:off x="304920" y="2666880"/>
            <a:ext cx="2936880" cy="3943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tectonic-seismometer"/>
          <p:cNvPicPr/>
          <p:nvPr/>
        </p:nvPicPr>
        <p:blipFill>
          <a:blip r:embed="rId2"/>
          <a:stretch/>
        </p:blipFill>
        <p:spPr>
          <a:xfrm>
            <a:off x="4648320" y="2671920"/>
            <a:ext cx="363852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 Homemade Seismometer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s the Earth shakes it causes the cup and pencil to swing drawing lines on the pape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uld a major earthquake make big lines or small line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76320" y="2590920"/>
            <a:ext cx="3886200" cy="2948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4114800" y="2743200"/>
            <a:ext cx="4876920" cy="2579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tectonic-seismometer"/>
          <p:cNvPicPr/>
          <p:nvPr/>
        </p:nvPicPr>
        <p:blipFill>
          <a:blip r:embed="rId3"/>
          <a:stretch/>
        </p:blipFill>
        <p:spPr>
          <a:xfrm>
            <a:off x="2438280" y="1600200"/>
            <a:ext cx="4648320" cy="42768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7"/>
          <p:cNvSpPr/>
          <p:nvPr/>
        </p:nvSpPr>
        <p:spPr>
          <a:xfrm>
            <a:off x="2895480" y="1752480"/>
            <a:ext cx="1219320" cy="3810240"/>
          </a:xfrm>
          <a:prstGeom prst="rect">
            <a:avLst/>
          </a:prstGeom>
          <a:noFill/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quake Damage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Picture 5" descr="[A picture of earthquake-moved railroad tracks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0"/>
            <a:ext cx="1733400" cy="2514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image of Loma Prieta"/>
          <p:cNvPicPr/>
          <p:nvPr/>
        </p:nvPicPr>
        <p:blipFill>
          <a:blip r:embed="rId3"/>
          <a:stretch/>
        </p:blipFill>
        <p:spPr>
          <a:xfrm>
            <a:off x="0" y="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Marina Image"/>
          <p:cNvPicPr/>
          <p:nvPr/>
        </p:nvPicPr>
        <p:blipFill>
          <a:blip r:embed="rId4"/>
          <a:stretch/>
        </p:blipFill>
        <p:spPr>
          <a:xfrm>
            <a:off x="0" y="2568600"/>
            <a:ext cx="3505320" cy="2003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11_236"/>
          <p:cNvPicPr/>
          <p:nvPr/>
        </p:nvPicPr>
        <p:blipFill>
          <a:blip r:embed="rId5"/>
          <a:stretch/>
        </p:blipFill>
        <p:spPr>
          <a:xfrm>
            <a:off x="0" y="4218120"/>
            <a:ext cx="40006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21_430"/>
          <p:cNvPicPr/>
          <p:nvPr/>
        </p:nvPicPr>
        <p:blipFill>
          <a:blip r:embed="rId6"/>
          <a:stretch/>
        </p:blipFill>
        <p:spPr>
          <a:xfrm>
            <a:off x="5181480" y="4216320"/>
            <a:ext cx="3962520" cy="2641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3_80"/>
          <p:cNvPicPr/>
          <p:nvPr/>
        </p:nvPicPr>
        <p:blipFill>
          <a:blip r:embed="rId7"/>
          <a:stretch/>
        </p:blipFill>
        <p:spPr>
          <a:xfrm>
            <a:off x="3484440" y="838080"/>
            <a:ext cx="2230560" cy="342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1_25"/>
          <p:cNvPicPr/>
          <p:nvPr/>
        </p:nvPicPr>
        <p:blipFill>
          <a:blip r:embed="rId8"/>
          <a:stretch/>
        </p:blipFill>
        <p:spPr>
          <a:xfrm>
            <a:off x="5638680" y="1905120"/>
            <a:ext cx="3505320" cy="2325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" descr="9_186"/>
          <p:cNvPicPr/>
          <p:nvPr/>
        </p:nvPicPr>
        <p:blipFill>
          <a:blip r:embed="rId9"/>
          <a:stretch/>
        </p:blipFill>
        <p:spPr>
          <a:xfrm>
            <a:off x="3505320" y="3581280"/>
            <a:ext cx="2152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Does Mississippi Have Earthquakes?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es, but they are very ra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1812 an earthquake of 8.2 magnitude was recorded in Memphis, TN.  Mississippi felt the shak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is predicted that this fault will produce another quake in the next 50 year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7" name="Picture 5" descr="050210_newmadrid_wide_03"/>
          <p:cNvPicPr/>
          <p:nvPr/>
        </p:nvPicPr>
        <p:blipFill>
          <a:blip r:embed="rId1"/>
          <a:stretch/>
        </p:blipFill>
        <p:spPr>
          <a:xfrm>
            <a:off x="3124080" y="4581360"/>
            <a:ext cx="33339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orks Cited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erkley.  1995.  Earthquake.  Accessed 20 Sept. 2006.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Comic Sans MS"/>
                <a:hlinkClick r:id="rId1"/>
              </a:rPr>
              <a:t>http://cse.ssl.berkeley.edu/lessons/indiv/davis/inprogress/QuakesEng3.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DLI.  Earthquakes: seismic waves.  Accessed 20 Sept. 2006.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Comic Sans MS"/>
                <a:hlinkClick r:id="rId2"/>
              </a:rPr>
              <a:t>http://www.cdli.ca/CITE/earth_waves.ht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TI.  2006. Sniffing for oil and earthquakes.  Accessed 20 Sept.  2006.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Comic Sans MS"/>
                <a:hlinkClick r:id="rId3"/>
              </a:rPr>
              <a:t>http://www.eti-geochemistry.com/gulfeq/images/pic07.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EMA.  Earthquakes.  Accessed 20 Sept. 2006.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Comic Sans MS"/>
                <a:hlinkClick r:id="rId4"/>
              </a:rPr>
              <a:t>http://www.fema.gov/kids/quake.ht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ive Science. New Data Confirms Strong Earthquake Risk to Central U.S. Accessed 20 Sept. 2006.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Comic Sans MS"/>
                <a:hlinkClick r:id="rId5"/>
              </a:rPr>
              <a:t>http://www.livescience.com/forcesofnature/050622_new_madrid.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aps.  2006.  Earth’s tectonic plates.  Accessed 20 Sept. 2006.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Comic Sans MS"/>
                <a:hlinkClick r:id="rId6"/>
              </a:rPr>
              <a:t>http://www.maps.com/ref_map.aspx?nav=RM&amp;cid=679,1037&amp;pid=12871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aryland Geological Society.  2006.  Earthquakes.  Accessed 20 Sept. 2006.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Comic Sans MS"/>
                <a:hlinkClick r:id="rId7"/>
              </a:rPr>
              <a:t>http://www.mgs.md.gov/esic/brochures/earthquake.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na’s Recipes.  Accessed 20 Sept. 2006.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Comic Sans MS"/>
                <a:hlinkClick r:id="rId8"/>
              </a:rPr>
              <a:t>http://nanasrecipes.com/soup.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rth Mississippi GK-8.  Earthquake activites.  Accessed 20 Sept. 2006. http://smartweed.olemiss.edu/nmgk8/curriculum/middleschool/seventh/earthquake/Earthquake.pdf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hysical Geography.  2006.  Earthquakes.  Accessed 21 Sept.  2006. http://www.physicalgeography.net/fundamentals/10m.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ovincial Emergency Program.  2006.  Earthquake damage.  Accessed 20 Sept. 2006. http://www.pep.bc.ca/hazard_preparedness/Earthquake_photos.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he Tech.  Earthquakes.  Accessed 20 Sept. 2006. http://www.thetech.net/exhibits/online/quakes/overview/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hinkquest.   Earthquakes. Accessed 20 Sept. 2006. http://library.thinkquest.org/10136/earthquk/earttq.htm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quake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brupt shakings of the Earth caused by the release of built up pressure on the Earth’s surfa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arthquakes cause the Earth to shake for less than a minute but can do major damag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4" descr="bd06922_[1]"/>
          <p:cNvPicPr/>
          <p:nvPr/>
        </p:nvPicPr>
        <p:blipFill>
          <a:blip r:embed="rId1"/>
          <a:stretch/>
        </p:blipFill>
        <p:spPr>
          <a:xfrm>
            <a:off x="5486400" y="1828800"/>
            <a:ext cx="320832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Is the Earth’s Crust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One Solid Sheet?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crust of Earth is actually broken into 12 main plates that fit together like puzzle piec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5" descr="Earth's Tectonic Plates"/>
          <p:cNvPicPr/>
          <p:nvPr/>
        </p:nvPicPr>
        <p:blipFill>
          <a:blip r:embed="rId1"/>
          <a:stretch/>
        </p:blipFill>
        <p:spPr>
          <a:xfrm>
            <a:off x="2000160" y="3124080"/>
            <a:ext cx="52387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Floating Earth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mantle is the layer of Earth just below the crust.  It is a made up of a liqui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cause the mantle is liquid, the hard surface of the Earth is actually float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crust floating on the mantle is similar to crackers floating on top of soup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2" name="Picture 5" descr="The layers of the earth"/>
          <p:cNvPicPr/>
          <p:nvPr/>
        </p:nvPicPr>
        <p:blipFill>
          <a:blip r:embed="rId1"/>
          <a:stretch/>
        </p:blipFill>
        <p:spPr>
          <a:xfrm>
            <a:off x="420840" y="4419720"/>
            <a:ext cx="194940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pea_soup"/>
          <p:cNvPicPr/>
          <p:nvPr/>
        </p:nvPicPr>
        <p:blipFill>
          <a:blip r:embed="rId2"/>
          <a:stretch/>
        </p:blipFill>
        <p:spPr>
          <a:xfrm>
            <a:off x="6095880" y="4572000"/>
            <a:ext cx="26672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o’s Fault is it?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The space between two plates is called a </a:t>
            </a:r>
            <a:r>
              <a:rPr b="0" lang="en-US" sz="3100" spc="-1" strike="noStrike">
                <a:solidFill>
                  <a:srgbClr val="ffff00"/>
                </a:solidFill>
                <a:latin typeface="Comic Sans MS"/>
              </a:rPr>
              <a:t>fault</a:t>
            </a: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Because earthquakes occur when two plates rub together, they are often said to occur on </a:t>
            </a:r>
            <a:r>
              <a:rPr b="0" lang="en-US" sz="3100" spc="-1" strike="noStrike">
                <a:solidFill>
                  <a:srgbClr val="ffff00"/>
                </a:solidFill>
                <a:latin typeface="Comic Sans MS"/>
              </a:rPr>
              <a:t>fault lines</a:t>
            </a: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7" name="Picture 7" descr="earthquakes_small"/>
          <p:cNvPicPr/>
          <p:nvPr/>
        </p:nvPicPr>
        <p:blipFill>
          <a:blip r:embed="rId1"/>
          <a:stretch/>
        </p:blipFill>
        <p:spPr>
          <a:xfrm>
            <a:off x="1828800" y="3144960"/>
            <a:ext cx="51055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late Movement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rth’s plates can move in three direction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verg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verg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ransformationa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5" descr="divergent"/>
          <p:cNvPicPr/>
          <p:nvPr/>
        </p:nvPicPr>
        <p:blipFill>
          <a:blip r:embed="rId1"/>
          <a:stretch/>
        </p:blipFill>
        <p:spPr>
          <a:xfrm>
            <a:off x="3048120" y="2590920"/>
            <a:ext cx="1428480" cy="857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convergent_motion"/>
          <p:cNvPicPr/>
          <p:nvPr/>
        </p:nvPicPr>
        <p:blipFill>
          <a:blip r:embed="rId2"/>
          <a:stretch/>
        </p:blipFill>
        <p:spPr>
          <a:xfrm>
            <a:off x="3276720" y="3962520"/>
            <a:ext cx="1904760" cy="82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tranformational"/>
          <p:cNvPicPr/>
          <p:nvPr/>
        </p:nvPicPr>
        <p:blipFill>
          <a:blip r:embed="rId3"/>
          <a:stretch/>
        </p:blipFill>
        <p:spPr>
          <a:xfrm>
            <a:off x="4267080" y="5410080"/>
            <a:ext cx="1428840" cy="8859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2"/>
          <p:cNvGrpSpPr/>
          <p:nvPr/>
        </p:nvGrpSpPr>
        <p:grpSpPr>
          <a:xfrm>
            <a:off x="762120" y="5027760"/>
            <a:ext cx="8223120" cy="1404720"/>
            <a:chOff x="762120" y="5027760"/>
            <a:chExt cx="8223120" cy="1404720"/>
          </a:xfrm>
        </p:grpSpPr>
        <p:sp>
          <p:nvSpPr>
            <p:cNvPr id="115" name="Rectangle 10"/>
            <p:cNvSpPr/>
            <p:nvPr/>
          </p:nvSpPr>
          <p:spPr>
            <a:xfrm>
              <a:off x="762120" y="5137200"/>
              <a:ext cx="5181480" cy="1295280"/>
            </a:xfrm>
            <a:prstGeom prst="rect">
              <a:avLst/>
            </a:prstGeom>
            <a:noFill/>
            <a:ln w="101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Text Box 11"/>
            <p:cNvSpPr/>
            <p:nvPr/>
          </p:nvSpPr>
          <p:spPr>
            <a:xfrm>
              <a:off x="6132960" y="5027760"/>
              <a:ext cx="2852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This movement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forms an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earthquak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How Does an Earthquake Form?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35809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plates try to move in opposite directions, they put pressure on each other because they do not want to slide past each othe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the pressure gets too great the pressure breaks and the plates are forced to slide.  This sliding, 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ic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is rough and jerky which causes the Earth to shak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0" name="Picture 5" descr="Diagram of Elastic Rebound Theory"/>
          <p:cNvPicPr/>
          <p:nvPr/>
        </p:nvPicPr>
        <p:blipFill>
          <a:blip r:embed="rId1"/>
          <a:srcRect l="0" t="0" r="0" b="61436"/>
          <a:stretch/>
        </p:blipFill>
        <p:spPr>
          <a:xfrm>
            <a:off x="1676520" y="914400"/>
            <a:ext cx="52578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Center of it All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point where the plates experience the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rictio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called the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picenter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is the epicenter in this pictur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14" descr="Diagram of Elastic Rebound Theory"/>
          <p:cNvPicPr/>
          <p:nvPr/>
        </p:nvPicPr>
        <p:blipFill>
          <a:blip r:embed="rId1"/>
          <a:srcRect l="0" t="0" r="0" b="61436"/>
          <a:stretch/>
        </p:blipFill>
        <p:spPr>
          <a:xfrm>
            <a:off x="1676520" y="3452760"/>
            <a:ext cx="5257800" cy="271944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8"/>
          <p:cNvGrpSpPr/>
          <p:nvPr/>
        </p:nvGrpSpPr>
        <p:grpSpPr>
          <a:xfrm>
            <a:off x="5486400" y="4343400"/>
            <a:ext cx="3224520" cy="459720"/>
            <a:chOff x="5486400" y="4343400"/>
            <a:chExt cx="3224520" cy="459720"/>
          </a:xfrm>
        </p:grpSpPr>
        <p:sp>
          <p:nvSpPr>
            <p:cNvPr id="126" name="Rectangle 16"/>
            <p:cNvSpPr/>
            <p:nvPr/>
          </p:nvSpPr>
          <p:spPr>
            <a:xfrm>
              <a:off x="5486400" y="4343400"/>
              <a:ext cx="914400" cy="457200"/>
            </a:xfrm>
            <a:prstGeom prst="rect">
              <a:avLst/>
            </a:prstGeom>
            <a:noFill/>
            <a:ln w="88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Text Box 17"/>
            <p:cNvSpPr/>
            <p:nvPr/>
          </p:nvSpPr>
          <p:spPr>
            <a:xfrm>
              <a:off x="7178400" y="4343400"/>
              <a:ext cx="15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picenter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o Feels the Shaking?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shaking starts at the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picenter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spreads in circles outward much like the ripples of water dripping into a puddl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3352680" y="3352680"/>
            <a:ext cx="2666880" cy="2742840"/>
            <a:chOff x="3352680" y="3352680"/>
            <a:chExt cx="2666880" cy="2742840"/>
          </a:xfrm>
        </p:grpSpPr>
        <p:pic>
          <p:nvPicPr>
            <p:cNvPr id="132" name="Picture 6" descr=""/>
            <p:cNvPicPr/>
            <p:nvPr/>
          </p:nvPicPr>
          <p:blipFill>
            <a:blip r:embed="rId1"/>
            <a:stretch/>
          </p:blipFill>
          <p:spPr>
            <a:xfrm>
              <a:off x="3352680" y="4149000"/>
              <a:ext cx="2666880" cy="19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7" descr=""/>
            <p:cNvPicPr/>
            <p:nvPr/>
          </p:nvPicPr>
          <p:blipFill>
            <a:blip r:embed="rId2"/>
            <a:stretch/>
          </p:blipFill>
          <p:spPr>
            <a:xfrm>
              <a:off x="4298760" y="3352680"/>
              <a:ext cx="1172160" cy="151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9" descr="Animation of the tsunami caused by the earthquake showing how the tsunami radiated from the entire length of the 1,200 kilometer  (750 mi) rupture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3352680"/>
            <a:ext cx="32004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22:20:04Z</dcterms:created>
  <dc:creator>Jill Frank</dc:creator>
  <dc:description/>
  <dc:language>en-US</dc:language>
  <cp:lastModifiedBy>Diane Mackenzie</cp:lastModifiedBy>
  <dcterms:modified xsi:type="dcterms:W3CDTF">2009-03-30T11:33:47Z</dcterms:modified>
  <cp:revision>14</cp:revision>
  <dc:subject/>
  <dc:title>Evaluating Earthquakes</dc:title>
</cp:coreProperties>
</file>